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6AC4-0D92-46DD-933B-25664D67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67E8-A0AC-47A3-A745-EA442E83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49FF-5901-43EB-BB15-B9CF948E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134E-7B12-4AF1-B069-69CFDBF7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4791-C922-4B4C-A3C5-F4BB5EDF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9D6E-2E27-41EE-972A-B3AA4CD6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3BE7-7CB2-4657-8A78-23927AEC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8888-0499-4E40-ADB6-1BF0294A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1BCD-9B82-4F28-A789-2BA5247D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C2E6-235F-45D4-BE28-71F94016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7CED-EC36-4B30-9ED9-17F4E135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C83A-96ED-4CCE-A29C-CB191CDC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5999-7CE9-4B74-846F-02AB2A40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E7E6-1565-4517-86A5-D15DBD2C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C6AE-2298-4E23-BDE0-453492D1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EE5D-BD91-482D-AE98-409F5C65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A1E7-8BF3-44AB-8852-4EA1D53B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CB28-A2BA-4795-AE98-73B9A17C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812B-C64D-4CDD-BA60-888F73EE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098B-506B-4BCC-971C-AD96F497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2FD0-9CDE-45FA-BFF0-1E6C77AE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BC5D-FD9B-4E6B-9FEB-F3FFCBD3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2C9-2870-4024-9D5F-255C046F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8ADA-40E4-4B59-95BA-3B0AB2D7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2F5E-5FF2-4EE6-948B-B537FF538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A04B-592E-4C90-AF86-E771A9EE6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oad-to-the-isles.org.uk/highland-cattle.jpg&amp;imgrefurl=http://www.road-to-the-isles.org.uk/beauty.html&amp;h=176&amp;w=289&amp;sz=17&amp;tbnid=iYYLrzVL4ooJ:&amp;tbnh=66&amp;tbnw=108&amp;start=11&amp;prev=/images%3Fq%3Dcattle%26hl%3Den%26lr%3D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erc.si.edu/forest_ecology/images/cornfield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ating Lower on the Food Cha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71600" y="3505320"/>
            <a:ext cx="6248520" cy="2835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0" y="3200400"/>
            <a:ext cx="2286000" cy="1905120"/>
          </a:xfrm>
          <a:prstGeom prst="wedgeEllipseCallout">
            <a:avLst>
              <a:gd name="adj1" fmla="val -70208"/>
              <a:gd name="adj2" fmla="val 62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86600" y="35812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hh, girls!!    I want to hear about this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t Petroleu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3505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s consume nearly as much fossil fuels at the supermarket as at the gas pum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ypical American burns about 530 gallons of gas each yea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riv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ating a meat based di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obbles up an additional 400  gallons of o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019920" y="4648320"/>
            <a:ext cx="28191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acre of corn requires 140 gallons of oil to produ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ing corn directly maximizes the energy inves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corn goes to livestock, only about a fifth of the protein is returned as food, four-fifths is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800600"/>
            <a:ext cx="1905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dditional tid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quarter of all antibiotics produced are used in the U.S. for food anim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ign originated veggies may have been sprayed with D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.A. water is full of DDT, washed off from foreign fruits and vegg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DT is stored in fat – linked to breast cancer (90% breast cancer patients have DDT in their syst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on of Concerned Scientists: List of Top Things You Can Do to Help the Pla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1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rive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2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at less red meat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iry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3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erve on heating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oling costs in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w products are the wor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45716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arly  87% of our agricultural land (50% for cows alone!) is engaged in animal production for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790960" cy="2971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781680" y="1143000"/>
            <a:ext cx="1828800" cy="1600200"/>
          </a:xfrm>
          <a:prstGeom prst="wedgeEllipseCallout">
            <a:avLst>
              <a:gd name="adj1" fmla="val -43750"/>
              <a:gd name="adj2" fmla="val 471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BEG YOUR PARD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.S. Crop % that goes to feed c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 -  90% of our soybeans, oats, wheat and 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038480" cy="4379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9480" y="4572000"/>
            <a:ext cx="5791320" cy="1143000"/>
          </a:xfrm>
          <a:prstGeom prst="wedgeEllipseCallout">
            <a:avLst>
              <a:gd name="adj1" fmla="val 47726"/>
              <a:gd name="adj2" fmla="val 47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!  You have a problem with t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w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1536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takes 16 lbs of wheat to make 1 lb of c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00 gallons of water per lb of cow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A lb of soybeans only takes about 260 gallons of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ypical North American Diet requires twice as much water to produce as less meat-intensive diets common in Asia and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ting  lower on food chain : same water could feed double the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ing animal products use ½ the water in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dairy cow drinks about 29 gallons of water a day, and needs 40 additional gallons for sanitation, producing only 8 gallons of m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t Wa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llution (Deep Doo-Doo!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 : agricultural runoff = primary pollution source for 60% of U.S. polluted rivers and stre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ag. = 130 times more than human waste and equivalent to 5 tons per per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ITS NOT TREATED BY A SEWAGE TREATMENT PL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nure from a 200-head dairy operation produces as much nitrogen as sewage from a town of 10,000 peop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airy cow produces 120 lbs of waste a day, 12 times as much as a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total of 22 tons per  cow per y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629400" y="5029200"/>
            <a:ext cx="22860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t Tre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ting a plant based diet personally saves an acre of trees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0 million acres of U.S. forests have been cleared for livestock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2133720"/>
            <a:ext cx="32004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ur foreign suppl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out Central and South America, grazing and feed grain production are the leading economic forces behind rainforest destruc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quarter lb hamburger costs Mother Nature 55 square feet of forest l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is the world’s top beef impor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ast food restaurant can claim to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from a U.S. supplier b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 are not required to declare the 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origin of their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086600" y="762120"/>
            <a:ext cx="1728720" cy="1670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Rainforest Beef Header Graphic"/>
          <p:cNvPicPr/>
          <p:nvPr/>
        </p:nvPicPr>
        <p:blipFill>
          <a:blip r:embed="rId2"/>
          <a:stretch/>
        </p:blipFill>
        <p:spPr>
          <a:xfrm>
            <a:off x="5562720" y="5213520"/>
            <a:ext cx="358128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22:10:32Z</dcterms:created>
  <dc:creator>tosborne</dc:creator>
  <dc:description/>
  <dc:language>en-US</dc:language>
  <cp:lastModifiedBy>tosborne</cp:lastModifiedBy>
  <dcterms:modified xsi:type="dcterms:W3CDTF">2010-10-22T20:49:37Z</dcterms:modified>
  <cp:revision>15</cp:revision>
  <dc:subject/>
  <dc:title>Eating Lower on the Food Chain</dc:title>
</cp:coreProperties>
</file>